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D4236-5EA5-49B4-A1AB-F785C401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44C7-CB4C-4DBC-B839-2B55E65D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7AA17-AFD4-4EBC-9A69-70BA2A674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8C340-C7DC-4246-964C-A83BDE915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42AD-283D-4E2A-AFBC-51B27982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A8D7-F84E-4D07-87C8-120FF431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8B12-3C42-4C89-B937-C219D1D5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ED8E-0517-49AA-BE1D-50B210F6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660A9-AC75-4A86-B534-8F705C00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9982-3F7C-4495-A291-96001808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0F95-E32C-4C2E-BB23-342D8A12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406C-039D-492A-9A29-635DAA1B1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FAAC-75B2-4848-8C78-F5CAB14076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pic>
        <p:nvPicPr>
          <p:cNvPr id="42" name="Picture 2" descr="D:\!PROJEKTY\LionFitness\Zdrowy przedszkolak\Logo\Akad_zdro_przedszkolak_logo5_2.jpg"/>
          <p:cNvPicPr/>
          <p:nvPr/>
        </p:nvPicPr>
        <p:blipFill>
          <a:blip r:embed="rId1"/>
          <a:stretch/>
        </p:blipFill>
        <p:spPr>
          <a:xfrm>
            <a:off x="1547640" y="1628640"/>
            <a:ext cx="6259680" cy="359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d wodą</a:t>
            </a:r>
            <a:br>
              <a:rPr sz="4000"/>
            </a:br>
            <a:r>
              <a:rPr b="0" lang="en-US" sz="4000" spc="-1" strike="noStrike">
                <a:solidFill>
                  <a:srgbClr val="000000"/>
                </a:solidFill>
                <a:latin typeface="Calibri"/>
              </a:rPr>
              <a:t>O czym pamiętać?</a:t>
            </a:r>
            <a:endParaRPr b="0" lang="en-US" sz="4000" spc="-1" strike="noStrike">
              <a:solidFill>
                <a:srgbClr val="000000"/>
              </a:solidFill>
              <a:latin typeface="Calibri"/>
            </a:endParaRPr>
          </a:p>
        </p:txBody>
      </p:sp>
      <p:sp>
        <p:nvSpPr>
          <p:cNvPr id="71" name=""/>
          <p:cNvSpPr txBox="1"/>
          <p:nvPr/>
        </p:nvSpPr>
        <p:spPr>
          <a:xfrm>
            <a:off x="457200" y="1773000"/>
            <a:ext cx="8229600" cy="43527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ZBĘDNE AKCESORI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rem z filtrem</a:t>
            </a:r>
            <a:r>
              <a:rPr b="1" lang="pl-PL" sz="1800" spc="-1" strike="noStrike">
                <a:solidFill>
                  <a:srgbClr val="000000"/>
                </a:solidFill>
                <a:latin typeface="Calibri"/>
              </a:rPr>
              <a:t> </a:t>
            </a:r>
            <a:r>
              <a:rPr b="0" lang="pl-PL" sz="1800" spc="-1" strike="noStrike">
                <a:solidFill>
                  <a:srgbClr val="000000"/>
                </a:solidFill>
                <a:latin typeface="Calibri"/>
              </a:rPr>
              <a:t>– chroni skórę Twojego dziecka przed szkodliwym promieniowaniem UV oraz przed poparzeniami słonecznym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apelusz/czapka osłaniająca głowę</a:t>
            </a:r>
            <a:r>
              <a:rPr b="1" lang="pl-PL" sz="1800" spc="-1" strike="noStrike">
                <a:solidFill>
                  <a:srgbClr val="000000"/>
                </a:solidFill>
                <a:latin typeface="Calibri"/>
              </a:rPr>
              <a:t> </a:t>
            </a:r>
            <a:r>
              <a:rPr b="0" lang="pl-PL" sz="1800" spc="-1" strike="noStrike">
                <a:solidFill>
                  <a:srgbClr val="000000"/>
                </a:solidFill>
                <a:latin typeface="Calibri"/>
              </a:rPr>
              <a:t>– chroni głowę przed udarem i przegrzani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okulary słoneczne</a:t>
            </a:r>
            <a:r>
              <a:rPr b="1" lang="pl-PL" sz="1800" spc="-1" strike="noStrike">
                <a:solidFill>
                  <a:srgbClr val="000000"/>
                </a:solidFill>
                <a:latin typeface="Calibri"/>
              </a:rPr>
              <a:t> </a:t>
            </a:r>
            <a:r>
              <a:rPr b="0" lang="pl-PL" sz="1800" spc="-1" strike="noStrike">
                <a:solidFill>
                  <a:srgbClr val="000000"/>
                </a:solidFill>
                <a:latin typeface="Calibri"/>
              </a:rPr>
              <a:t>– zabezpieczają oczy dziecka, powinny być dobrej jakośc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woda do picia</a:t>
            </a:r>
            <a:r>
              <a:rPr b="1" lang="pl-PL" sz="1800" spc="-1" strike="noStrike">
                <a:solidFill>
                  <a:srgbClr val="000000"/>
                </a:solidFill>
                <a:latin typeface="Calibri"/>
              </a:rPr>
              <a:t> </a:t>
            </a:r>
            <a:r>
              <a:rPr b="0" lang="pl-PL" sz="1800" spc="-1" strike="noStrike">
                <a:solidFill>
                  <a:srgbClr val="000000"/>
                </a:solidFill>
                <a:latin typeface="Calibri"/>
              </a:rPr>
              <a:t>– niezbędna w upalne dni!, zapobiega odwodnieniu organizmu</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oło ratunkowe</a:t>
            </a:r>
            <a:r>
              <a:rPr b="1" lang="pl-PL" sz="1800" spc="-1" strike="noStrike">
                <a:solidFill>
                  <a:srgbClr val="000000"/>
                </a:solidFill>
                <a:latin typeface="Calibri"/>
              </a:rPr>
              <a:t> </a:t>
            </a:r>
            <a:r>
              <a:rPr b="0" lang="pl-PL" sz="1800" spc="-1" strike="noStrike">
                <a:solidFill>
                  <a:srgbClr val="000000"/>
                </a:solidFill>
                <a:latin typeface="Calibri"/>
              </a:rPr>
              <a:t>– niezastąpione w wodzie, pomaga utrzymać się dziecku na powierzchni wod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rękawki (naramienniki) do pływania</a:t>
            </a:r>
            <a:r>
              <a:rPr b="1" lang="pl-PL" sz="1800" spc="-1" strike="noStrike">
                <a:solidFill>
                  <a:srgbClr val="000000"/>
                </a:solidFill>
                <a:latin typeface="Calibri"/>
              </a:rPr>
              <a:t> </a:t>
            </a:r>
            <a:r>
              <a:rPr b="0" lang="pl-PL" sz="1800" spc="-1" strike="noStrike">
                <a:solidFill>
                  <a:srgbClr val="000000"/>
                </a:solidFill>
                <a:latin typeface="Calibri"/>
              </a:rPr>
              <a:t>– mogą zastąpić koło ratunkowe, chronia dziecko przed podtopieni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pianka</a:t>
            </a:r>
            <a:r>
              <a:rPr b="0" lang="pl-PL" sz="1800" spc="-1" strike="noStrike">
                <a:solidFill>
                  <a:srgbClr val="000000"/>
                </a:solidFill>
                <a:latin typeface="Calibri"/>
              </a:rPr>
              <a:t> – lekka, zamiennik koła, chroni przed podtopieniem</a:t>
            </a:r>
            <a:endParaRPr b="0" lang="en-US" sz="18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Calibri"/>
              </a:rPr>
              <a:t>   </a:t>
            </a:r>
            <a:r>
              <a:rPr b="0" lang="pl-PL" sz="1300" spc="-1" strike="noStrike">
                <a:solidFill>
                  <a:srgbClr val="000000"/>
                </a:solidFill>
                <a:latin typeface="Calibri"/>
              </a:rPr>
              <a:t>	</a:t>
            </a:r>
            <a:r>
              <a:rPr b="1" lang="pl-PL" sz="1600" spc="-1" strike="noStrike" u="sng">
                <a:solidFill>
                  <a:srgbClr val="000000"/>
                </a:solidFill>
                <a:uFillTx/>
                <a:latin typeface="Calibri"/>
              </a:rPr>
              <a:t>Nigdy nie pozwalaj dziecku wejść do wody bez nadzoru osoby dorosłej!</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lesie i w górach</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2800" spc="-1" strike="noStrike">
                <a:solidFill>
                  <a:srgbClr val="000000"/>
                </a:solidFill>
                <a:latin typeface="Calibri"/>
              </a:rPr>
              <a:t>Niewłaściwie przygotowana                                 wyprawa do lasu czy w góry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że może okazać się                                                 niebezpieczna.                                                                    Poza właściwym ubraniem                                                   i ekwipunkiem, musimy pamiętać,                                      by na wycieczkę górską wybierać się                                 tylko wtedy, gdy jest</a:t>
            </a:r>
            <a:r>
              <a:rPr b="1" lang="en-US" sz="2800" spc="-1" strike="noStrike">
                <a:solidFill>
                  <a:srgbClr val="000000"/>
                </a:solidFill>
                <a:latin typeface="Calibri"/>
              </a:rPr>
              <a:t> pewna pogoda</a:t>
            </a:r>
            <a:r>
              <a:rPr b="0" lang="en-US" sz="2800" spc="-1" strike="noStrike">
                <a:solidFill>
                  <a:srgbClr val="000000"/>
                </a:solidFill>
                <a:latin typeface="Calibri"/>
              </a:rPr>
              <a:t>,                    </a:t>
            </a:r>
            <a:r>
              <a:rPr b="0" lang="en-US" sz="2800" spc="-1" strike="noStrike" u="sng">
                <a:solidFill>
                  <a:srgbClr val="000000"/>
                </a:solidFill>
                <a:uFillTx/>
                <a:latin typeface="Calibri"/>
              </a:rPr>
              <a:t>zwłaszcza, gdy zabieramy ze sobą dzieci</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75" name="Picture 2" descr="C:\Users\Aneta\Desktop\zdjęcia zdrowy\dreamstimemedium_21989218.jpg"/>
          <p:cNvPicPr/>
          <p:nvPr/>
        </p:nvPicPr>
        <p:blipFill>
          <a:blip r:embed="rId1"/>
          <a:stretch/>
        </p:blipFill>
        <p:spPr>
          <a:xfrm>
            <a:off x="5148360" y="1916280"/>
            <a:ext cx="3024000" cy="2017440"/>
          </a:xfrm>
          <a:prstGeom prst="rect">
            <a:avLst/>
          </a:prstGeom>
          <a:ln w="0">
            <a:noFill/>
          </a:ln>
        </p:spPr>
      </p:pic>
      <p:pic>
        <p:nvPicPr>
          <p:cNvPr id="76" name="Picture 2" descr="D:\!PROJEKTY\LionFitness\Zdrowy przedszkolak\Logo\Akad_zdro_przedszkolak_logo5_2.jpg"/>
          <p:cNvPicPr/>
          <p:nvPr/>
        </p:nvPicPr>
        <p:blipFill>
          <a:blip r:embed="rId2"/>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lesie </a:t>
            </a:r>
            <a:r>
              <a:rPr b="0" lang="en-US" sz="4400" spc="-1" strike="noStrike">
                <a:solidFill>
                  <a:srgbClr val="000000"/>
                </a:solidFill>
                <a:latin typeface="Calibri"/>
              </a:rPr>
              <a:t>– Pamiętaj!</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pozwól dziecku iść do lasu bez osoby dorosłej!</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wyrzucajcie śmieci w lesie!</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zostawiajcie jedzenia dla zwierząt!</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leży założyć spodnie i bluzkę z długim rękawem oraz czapkę, aby uniknąć ukąszenia kleszcza! Sprawdzaj całe ciało dziecka po każdym spacerze!</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miętaj, by założyć dziecku dobre                   buty!</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9"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5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górach </a:t>
            </a:r>
            <a:r>
              <a:rPr b="0" lang="en-US" sz="4400" spc="-1" strike="noStrike">
                <a:solidFill>
                  <a:srgbClr val="000000"/>
                </a:solidFill>
                <a:latin typeface="Calibri"/>
              </a:rPr>
              <a:t>– Pamiętaj!</a:t>
            </a:r>
            <a:endParaRPr b="0" lang="en-US" sz="4400" spc="-1" strike="noStrike">
              <a:solidFill>
                <a:srgbClr val="000000"/>
              </a:solidFill>
              <a:latin typeface="Calibri"/>
            </a:endParaRPr>
          </a:p>
        </p:txBody>
      </p:sp>
      <p:sp>
        <p:nvSpPr>
          <p:cNvPr id="81" name=""/>
          <p:cNvSpPr txBox="1"/>
          <p:nvPr/>
        </p:nvSpPr>
        <p:spPr>
          <a:xfrm>
            <a:off x="457200" y="1197000"/>
            <a:ext cx="8229600" cy="4929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gdy nie pozwalaj dziecku wychodzić w góry bez osoby dorosłej!</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miętaj o odpowiednim obuwiu dla dziecka i dla sieb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miętaj o ciepłym ubraniu (może być w plecaku) – wyżej zawsze jest chłodniej!</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ź ze sobą gorący napój w termos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bierz pelerynę przeciwdeszczową!</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Nigdy nie wybierajcie się w góry, gdy pogoda nie jest pew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 podwórku</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500" spc="-1" strike="noStrike">
                <a:solidFill>
                  <a:srgbClr val="000000"/>
                </a:solidFill>
                <a:latin typeface="Calibri"/>
              </a:rPr>
              <a:t>Także na przydomowym podwórku często dochodzi do wypadków z udziałem naszych dzieci. Pamiętajmy o kilku zasadach:</a:t>
            </a:r>
            <a:endParaRPr b="0" lang="en-US" sz="25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e pozwól bawić się dziecku w pobliżu ulic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ziecko nie może przez ulicę bez osoby dorosłej!</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czulaj swoje dziecko, by nigdy nie oddalało się z nieznajomą osobą!</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zypominaj, by nie mówiło osobie nieznajomej, gdzie mieszk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nuj, by dziecko nie bawiło się w pobliżu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lacu budow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ziecko nie może oddalać się z placu zabaw bez opieku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zpieczeństwo w drodz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czasie wakacji dużo podróżujemy, także z dziećmi. O ile na bezpieczną jazdę pociągiem czy autokarem lub lot samochodem mamy niewielki wpływ, na pewno możemy bezpiecznie podróżować z dzieckiem samochodem – czy to w dalekie trasy, czy w krótką drogę do przedszkola.</a:t>
            </a:r>
            <a:endParaRPr b="0" lang="en-US" sz="3200" spc="-1" strike="noStrike">
              <a:solidFill>
                <a:srgbClr val="000000"/>
              </a:solidFill>
              <a:latin typeface="Calibri"/>
            </a:endParaRPr>
          </a:p>
        </p:txBody>
      </p:sp>
      <p:pic>
        <p:nvPicPr>
          <p:cNvPr id="88"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O czym musimy pamiętać, przewożąc dziecko w samochodzie?</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 odpowiednim foteliku, dostosowanym do wagi i wieku dziecka</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telik powinien być przymocowany na tylnym siedzeniu, najlepiej za siedzeniem kierowcy – to najbezpieczniejsze miejsc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ziecko musi być zapięte pasem bezpieczeństwa</a:t>
            </a:r>
            <a:endParaRPr b="0" lang="en-US" sz="26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200" spc="-1" strike="noStrike">
                <a:solidFill>
                  <a:srgbClr val="000000"/>
                </a:solidFill>
                <a:latin typeface="Calibri"/>
              </a:rPr>
              <a:t>Pamiętajmy, dziecko zawsze musi być zapięte w foteliku, nawet gdy wybieramy się w kilkukilometrową drogę do sklepu czy przedszkola! Statystyki pokazują, że aż do 40% poważnych wypadków z udziałem dzieci dochodzi podczas podróży krótszych niż 3 kilometry!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1"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UMERY TELEFONÓW, KTÓRE POWINNO ZNAĆ TWOJE DZIECKO</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fon alarmowy: 112 – najbardziej uniwersal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gotowie Ratunkowe: 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ż Pożarna: 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ja: 99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YSTYKI</a:t>
            </a:r>
            <a:endParaRPr b="0" lang="en-US" sz="4400" spc="-1" strike="noStrike">
              <a:solidFill>
                <a:srgbClr val="000000"/>
              </a:solidFill>
              <a:latin typeface="Calibri"/>
            </a:endParaRPr>
          </a:p>
        </p:txBody>
      </p:sp>
      <p:sp>
        <p:nvSpPr>
          <p:cNvPr id="96" name=""/>
          <p:cNvSpPr txBox="1"/>
          <p:nvPr/>
        </p:nvSpPr>
        <p:spPr>
          <a:xfrm>
            <a:off x="468360" y="1341000"/>
            <a:ext cx="8229600" cy="482436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Dzieci, które jeżdżą na rowerze bez kasku na głowie zwiększają ryzyko poważnego, nawet śmiertelnego urazu w czasie wypadku aż czternastokrotnie. Dzieci poniżej 10 roku życia są najbardziej narażone na poważne urazy głowy, a właściwie dobrany kask może zmniejszyć ryzyko takiego urazu o 85%.</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Z danych Komendy Głównej Policji wynika, że w 2011 roku zaginęło 4330 dzieci i nastolatków. To naprawdę alarmująca liczba! W przypadku dzieci poniżej 6 roku życia za zaginięcia zwykle odpowiedzialni są rodzice, którzy nie dopilnowali dzieck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2" descr="D:\!PROJEKTY\LionFitness\Zdrowy przedszkolak\Logo\Akad_zdro_przedszkolak_logo5_2.jpg"/>
          <p:cNvPicPr/>
          <p:nvPr/>
        </p:nvPicPr>
        <p:blipFill>
          <a:blip r:embed="rId1"/>
          <a:stretch/>
        </p:blipFill>
        <p:spPr>
          <a:xfrm>
            <a:off x="6732720" y="6165720"/>
            <a:ext cx="1876320" cy="107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YSTYKI – C.D.</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ylko około 10% dzieci podróżuje w odpowiednio zabezpieczonych fotelikach, a prawie połowa wypadków ma miejsce na krótkich, kilkukilometrowych trasach.</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mo ciągłych ostrzeżeń, liczba utonięć co roku jest alarmująca – niemal 3000 w całym roku 2011! 50% wszystkich utonięć dotyczy dzieci, z czego 20% dzieci do lat 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76280"/>
            <a:ext cx="82296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KCJA BEZPIECZNY PRZEDSZKOLAK</a:t>
            </a:r>
            <a:br>
              <a:rPr sz="4000"/>
            </a:br>
            <a:br>
              <a:rPr sz="4000"/>
            </a:br>
            <a:br>
              <a:rPr sz="4000"/>
            </a:br>
            <a:br>
              <a:rPr sz="4000"/>
            </a:br>
            <a:endParaRPr b="0" lang="en-US" sz="4000" spc="-1" strike="noStrike">
              <a:solidFill>
                <a:srgbClr val="000000"/>
              </a:solidFill>
              <a:latin typeface="Calibri"/>
            </a:endParaRPr>
          </a:p>
        </p:txBody>
      </p:sp>
      <p:sp>
        <p:nvSpPr>
          <p:cNvPr id="44" name=""/>
          <p:cNvSpPr txBox="1"/>
          <p:nvPr/>
        </p:nvSpPr>
        <p:spPr>
          <a:xfrm>
            <a:off x="457200" y="4437000"/>
            <a:ext cx="8229600" cy="16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45"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pic>
        <p:nvPicPr>
          <p:cNvPr id="46" name="Picture 2" descr="C:\Users\Aneta\Downloads\plakat (2).jpg"/>
          <p:cNvPicPr/>
          <p:nvPr/>
        </p:nvPicPr>
        <p:blipFill>
          <a:blip r:embed="rId2"/>
          <a:stretch/>
        </p:blipFill>
        <p:spPr>
          <a:xfrm>
            <a:off x="755640" y="981000"/>
            <a:ext cx="3960720" cy="5599080"/>
          </a:xfrm>
          <a:prstGeom prst="rect">
            <a:avLst/>
          </a:prstGeom>
          <a:ln w="0">
            <a:noFill/>
          </a:ln>
        </p:spPr>
      </p:pic>
      <p:sp>
        <p:nvSpPr>
          <p:cNvPr id="47" name="pole tekstowe 6"/>
          <p:cNvSpPr/>
          <p:nvPr/>
        </p:nvSpPr>
        <p:spPr>
          <a:xfrm>
            <a:off x="5003640" y="2349360"/>
            <a:ext cx="37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ZENTACJA DLA RODZICÓ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zpieczny Przedszkolak</a:t>
            </a:r>
            <a:br>
              <a:rPr sz="4000"/>
            </a:br>
            <a:r>
              <a:rPr b="0" lang="en-US" sz="4000" spc="-1" strike="noStrike">
                <a:solidFill>
                  <a:srgbClr val="000000"/>
                </a:solidFill>
                <a:latin typeface="Calibri"/>
              </a:rPr>
              <a:t>Podsumowanie</a:t>
            </a:r>
            <a:endParaRPr b="0" lang="en-US" sz="4000" spc="-1" strike="noStrike">
              <a:solidFill>
                <a:srgbClr val="000000"/>
              </a:solidFill>
              <a:latin typeface="Calibri"/>
            </a:endParaRPr>
          </a:p>
        </p:txBody>
      </p:sp>
      <p:sp>
        <p:nvSpPr>
          <p:cNvPr id="103" name=""/>
          <p:cNvSpPr txBox="1"/>
          <p:nvPr/>
        </p:nvSpPr>
        <p:spPr>
          <a:xfrm>
            <a:off x="457200" y="1599840"/>
            <a:ext cx="8229600" cy="4708440"/>
          </a:xfrm>
          <a:prstGeom prst="rect">
            <a:avLst/>
          </a:prstGeom>
          <a:noFill/>
          <a:ln w="0">
            <a:noFill/>
          </a:ln>
        </p:spPr>
        <p:txBody>
          <a:bodyPr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Zdajemy sobie sprawę – lekceważymy!</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Mamy świadomość – zapominamy!</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Staramy się – zaniedbujemy!</a:t>
            </a:r>
            <a:endParaRPr b="0" lang="en-US" sz="27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Nic bardziej mylnego, że pamiętamy, mamy świadomość i staramy się albo myślimy, że nas to nie dotyczy. Statystyki są pod tym względem bezlitosne. Poprzez akcję Bezpieczny Przedszkolak chcemy kształtować u dzieci nawyki unikania sytuacji kryzysowych oraz uczyć właściwych zachowań, kiedy już do tych sytuacji dojdzie. Chcemy również przypomnieć rodzicom, jak ważny jest aspekt ochrony własnego dziecka, bo najwięcej błędów popełniamy właśnie my – rodzice. </a:t>
            </a:r>
            <a:endParaRPr b="0" lang="en-US" sz="2700" spc="-1" strike="noStrike">
              <a:solidFill>
                <a:srgbClr val="000000"/>
              </a:solidFill>
              <a:latin typeface="Calibri"/>
            </a:endParaRPr>
          </a:p>
          <a:p>
            <a:pPr>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KCJA BEZPIECZNY PRZEDSZKOLAK – jakie problemy porusza?</a:t>
            </a:r>
            <a:br>
              <a:rPr sz="4000"/>
            </a:br>
            <a:endParaRPr b="0" lang="en-US" sz="4000" spc="-1" strike="noStrike">
              <a:solidFill>
                <a:srgbClr val="000000"/>
              </a:solidFill>
              <a:latin typeface="Calibri"/>
            </a:endParaRPr>
          </a:p>
        </p:txBody>
      </p:sp>
      <p:sp>
        <p:nvSpPr>
          <p:cNvPr id="49"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W DOMU</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NA WAKACJACH</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d wodą</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górach</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lesi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 podwórku</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W DRODZ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 wakacj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przedszkol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YSTYKI</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0000"/>
                </a:solidFill>
                <a:latin typeface="Calibri"/>
              </a:rPr>
              <a:t>BEZPIECZEŃSTWO W DOMU</a:t>
            </a:r>
            <a:endParaRPr b="0" lang="en-US" sz="4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ctr">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usimy pamiętać, że nasze dziecko każdego dnia jest narażone na niebezpieczne sytuacje  w swoim własnym domu. Statystyki pokazują, że </a:t>
            </a:r>
            <a:r>
              <a:rPr b="1" lang="en-US" sz="3200" spc="-1" strike="noStrike" u="sng">
                <a:solidFill>
                  <a:srgbClr val="000000"/>
                </a:solidFill>
                <a:uFillTx/>
                <a:latin typeface="Calibri"/>
              </a:rPr>
              <a:t>40% wszystkich wypadków dzieci ma miejsce w domu.</a:t>
            </a:r>
            <a:r>
              <a:rPr b="1" lang="en-US" sz="3200" spc="-1" strike="noStrike">
                <a:solidFill>
                  <a:srgbClr val="000000"/>
                </a:solidFill>
                <a:latin typeface="Calibri"/>
              </a:rPr>
              <a:t> </a:t>
            </a:r>
            <a:r>
              <a:rPr b="0" lang="en-US" sz="3200" spc="-1" strike="noStrike">
                <a:solidFill>
                  <a:srgbClr val="000000"/>
                </a:solidFill>
                <a:latin typeface="Calibri"/>
              </a:rPr>
              <a:t>A wystarczy tylko właściwie zabezpieczyć mieszkanie, aby uniknąć wielu z nich.  </a:t>
            </a:r>
            <a:endParaRPr b="0" lang="en-US" sz="3200" spc="-1" strike="noStrike">
              <a:solidFill>
                <a:srgbClr val="000000"/>
              </a:solidFill>
              <a:latin typeface="Calibri"/>
            </a:endParaRPr>
          </a:p>
        </p:txBody>
      </p:sp>
      <p:pic>
        <p:nvPicPr>
          <p:cNvPr id="53"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u="sng">
                <a:solidFill>
                  <a:srgbClr val="000000"/>
                </a:solidFill>
                <a:uFillTx/>
                <a:latin typeface="Calibri"/>
              </a:rPr>
              <a:t>Najbardziej niebezpieczne dla dziecka przedmioty w domu:</a:t>
            </a:r>
            <a:br>
              <a:rPr sz="4000"/>
            </a:br>
            <a:endParaRPr b="0" lang="en-US" sz="3200" spc="-1" strike="noStrike">
              <a:solidFill>
                <a:srgbClr val="000000"/>
              </a:solidFill>
              <a:latin typeface="Calibri"/>
            </a:endParaRPr>
          </a:p>
        </p:txBody>
      </p:sp>
      <p:sp>
        <p:nvSpPr>
          <p:cNvPr id="55" name=""/>
          <p:cNvSpPr txBox="1"/>
          <p:nvPr/>
        </p:nvSpPr>
        <p:spPr>
          <a:xfrm>
            <a:off x="457200" y="1483920"/>
            <a:ext cx="8229600" cy="4969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Schody</a:t>
            </a:r>
            <a:r>
              <a:rPr b="0" lang="pl-PL" sz="2200" spc="-1" strike="noStrike">
                <a:solidFill>
                  <a:srgbClr val="000000"/>
                </a:solidFill>
                <a:latin typeface="Calibri"/>
              </a:rPr>
              <a:t> - powinny być łagodne, jak najmniej kręte, z poręczą. Jeśli nasze nie należą do najbezpieczniejszych, przynajmniej pokryjmy je materiałem antypoślizgowy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Okna i drzwi</a:t>
            </a:r>
            <a:r>
              <a:rPr b="1" lang="pl-PL" sz="2200" spc="-1" strike="noStrike">
                <a:solidFill>
                  <a:srgbClr val="000000"/>
                </a:solidFill>
                <a:latin typeface="Calibri"/>
              </a:rPr>
              <a:t> </a:t>
            </a:r>
            <a:r>
              <a:rPr b="0" lang="pl-PL" sz="2200" spc="-1" strike="noStrike">
                <a:solidFill>
                  <a:srgbClr val="000000"/>
                </a:solidFill>
                <a:latin typeface="Calibri"/>
              </a:rPr>
              <a:t>– łatwo sobie wyobrazić, co stanie się z dzieckiem, które wypadnie z okna z 3 piętra. Nie dopuśćmy do takiej sytuacji!!! Okna muszą być zabezpieczone blokadami, uniemożliwiającymi dziecku samodzielne otwarcie. Obok nich nie wolno ustawiać foteli, łóżek, krzeseł, stołu – dziecko zainteresowane tym, co dzieje się za oknem, może się po nich wdrapać na parap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6"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ajbardziej niebezpieczne dla dziecka przedmioty w domu:</a:t>
            </a:r>
            <a:endParaRPr b="0" lang="en-US" sz="3200" spc="-1" strike="noStrike">
              <a:solidFill>
                <a:srgbClr val="000000"/>
              </a:solidFill>
              <a:latin typeface="Calibri"/>
            </a:endParaRPr>
          </a:p>
        </p:txBody>
      </p:sp>
      <p:sp>
        <p:nvSpPr>
          <p:cNvPr id="58" name=""/>
          <p:cNvSpPr txBox="1"/>
          <p:nvPr/>
        </p:nvSpPr>
        <p:spPr>
          <a:xfrm>
            <a:off x="457200" y="1557000"/>
            <a:ext cx="8229600" cy="5111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Przeszklenia w  drzwiach</a:t>
            </a:r>
            <a:r>
              <a:rPr b="1" lang="en-US" sz="2200" spc="-1" strike="noStrike">
                <a:solidFill>
                  <a:srgbClr val="000000"/>
                </a:solidFill>
                <a:latin typeface="Calibri"/>
              </a:rPr>
              <a:t> </a:t>
            </a:r>
            <a:r>
              <a:rPr b="0" lang="en-US" sz="2200" spc="-1" strike="noStrike">
                <a:solidFill>
                  <a:srgbClr val="000000"/>
                </a:solidFill>
                <a:latin typeface="Calibri"/>
              </a:rPr>
              <a:t>- rozbite szkło może być przyczyną groźnego urazu dziecka, dziecko może rzucić w nie piłką, przewrócić się na odłamki szkła… -  najlepiej unikać drzwi z takimi rozwiązaniam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Prąd elektryczny</a:t>
            </a:r>
            <a:r>
              <a:rPr b="1" lang="en-US" sz="2200" spc="-1" strike="noStrike">
                <a:solidFill>
                  <a:srgbClr val="000000"/>
                </a:solidFill>
                <a:latin typeface="Calibri"/>
              </a:rPr>
              <a:t> </a:t>
            </a:r>
            <a:r>
              <a:rPr b="0" lang="en-US" sz="2200" spc="-1" strike="noStrike">
                <a:solidFill>
                  <a:srgbClr val="000000"/>
                </a:solidFill>
                <a:latin typeface="Calibri"/>
              </a:rPr>
              <a:t>– kontakt dziecka z prądem nigdy nie kończy się dobrze. Gniazdka w domu muszą być wyposażone w plastikowe zaślepki, lampy powinny być umieszczone powyżej zasięgu rąk dzieck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ekarstwa</a:t>
            </a:r>
            <a:r>
              <a:rPr b="0" lang="en-US" sz="2200" spc="-1" strike="noStrike">
                <a:solidFill>
                  <a:srgbClr val="000000"/>
                </a:solidFill>
                <a:latin typeface="Calibri"/>
              </a:rPr>
              <a:t> – tabletki często są kolorowe i atrakcyjnie wyglądają dla dziecka; niektóre płynne środki są dodatkowo słodki – a to śmiertelne zagrożenie dla naszego malucha. Przedawkowanie leków w najlepszym wypadku skutkuje ciężkim zatruciem i poparzeniem błon śluzowych wyścielających gardło i przełyk, a w najgorszym nawet śmiercią. Lekarstwa w naszym domu powinny                        być schowane w dobrze zamkniętym pudełku,                                   najlepiej w szafce umieszczonej wysoko, powyżej                       zasięgu rąk dziecka</a:t>
            </a:r>
            <a:endParaRPr b="0" lang="en-US" sz="22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59"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ajbardziej niebezpieczne dla dziecka przedmioty w domu:</a:t>
            </a:r>
            <a:endParaRPr b="0" lang="en-US" sz="3200" spc="-1" strike="noStrike">
              <a:solidFill>
                <a:srgbClr val="000000"/>
              </a:solidFill>
              <a:latin typeface="Calibri"/>
            </a:endParaRPr>
          </a:p>
        </p:txBody>
      </p:sp>
      <p:sp>
        <p:nvSpPr>
          <p:cNvPr id="61" name=""/>
          <p:cNvSpPr txBox="1"/>
          <p:nvPr/>
        </p:nvSpPr>
        <p:spPr>
          <a:xfrm>
            <a:off x="468360" y="1196640"/>
            <a:ext cx="8229600" cy="554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Środki chemiczne</a:t>
            </a:r>
            <a:r>
              <a:rPr b="1" lang="pl-PL" sz="2200" spc="-1" strike="noStrike">
                <a:solidFill>
                  <a:srgbClr val="000000"/>
                </a:solidFill>
                <a:latin typeface="Calibri"/>
              </a:rPr>
              <a:t> </a:t>
            </a:r>
            <a:r>
              <a:rPr b="0" lang="pl-PL" sz="2200" spc="-1" strike="noStrike">
                <a:solidFill>
                  <a:srgbClr val="000000"/>
                </a:solidFill>
                <a:latin typeface="Calibri"/>
              </a:rPr>
              <a:t>– równie groźne dla dziecka, po połknięciu powodują ciężkie oparzenia. Pamiętajmy, by nigdy nie zostawiać ich po sprzątaniu na podłodze; wszystkie płyny, mleczka, proszki i żrące substancje powinny być schowane, najlepiej w zamkniętej kluczem lub blokadą półce, jak najdalej od zasięgu rąk dzieck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Wanna</a:t>
            </a:r>
            <a:r>
              <a:rPr b="0" lang="pl-PL" sz="2200" spc="-1" strike="noStrike">
                <a:solidFill>
                  <a:srgbClr val="000000"/>
                </a:solidFill>
                <a:latin typeface="Calibri"/>
              </a:rPr>
              <a:t> – nie można nigdy zostawiać dziecka samego w wodzie. Małe dziecko, nawet w wodzie o głębokości 10 cm!, niepilnowane może się utopić</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Kuchenki elektryczne i gazowe</a:t>
            </a:r>
            <a:r>
              <a:rPr b="1" lang="pl-PL" sz="2200" spc="-1" strike="noStrike">
                <a:solidFill>
                  <a:srgbClr val="000000"/>
                </a:solidFill>
                <a:latin typeface="Calibri"/>
              </a:rPr>
              <a:t> </a:t>
            </a:r>
            <a:r>
              <a:rPr b="0" lang="pl-PL" sz="2200" spc="-1" strike="noStrike">
                <a:solidFill>
                  <a:srgbClr val="000000"/>
                </a:solidFill>
                <a:latin typeface="Calibri"/>
              </a:rPr>
              <a:t>– należy uczyć dziecko, by nigdy nie zbliżało się do nich, nie dotykało płyt kuchenki, nie kręciło pokrętłam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Ostre narzędzia</a:t>
            </a:r>
            <a:r>
              <a:rPr b="1" lang="pl-PL" sz="2200" spc="-1" strike="noStrike">
                <a:solidFill>
                  <a:srgbClr val="000000"/>
                </a:solidFill>
                <a:latin typeface="Calibri"/>
              </a:rPr>
              <a:t> </a:t>
            </a:r>
            <a:r>
              <a:rPr b="0" lang="pl-PL" sz="2200" spc="-1" strike="noStrike">
                <a:solidFill>
                  <a:srgbClr val="000000"/>
                </a:solidFill>
                <a:latin typeface="Calibri"/>
              </a:rPr>
              <a:t>– wszystkie ostre, tnące                                   narzędzia (noże, otwieracze, itp.) powinny być                       schowane w szufladzie, będącej poza zasięgiem                        dziecka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ZPIECZEŃSTWO NA WAKACJACH</a:t>
            </a:r>
            <a:endParaRPr b="0" lang="en-US" sz="4400" spc="-1" strike="noStrike">
              <a:solidFill>
                <a:srgbClr val="000000"/>
              </a:solidFill>
              <a:latin typeface="Calibri"/>
            </a:endParaRPr>
          </a:p>
        </p:txBody>
      </p:sp>
      <p:pic>
        <p:nvPicPr>
          <p:cNvPr id="64" name="Picture 2" descr="C:\Users\Aneta\Desktop\zdjęcia zdrowy\dreamstimemedium_4849.jpg"/>
          <p:cNvPicPr/>
          <p:nvPr/>
        </p:nvPicPr>
        <p:blipFill>
          <a:blip r:embed="rId1"/>
          <a:stretch/>
        </p:blipFill>
        <p:spPr>
          <a:xfrm>
            <a:off x="5735520" y="1773360"/>
            <a:ext cx="3119400" cy="2087280"/>
          </a:xfrm>
          <a:prstGeom prst="rect">
            <a:avLst/>
          </a:prstGeom>
          <a:ln w="0">
            <a:noFill/>
          </a:ln>
        </p:spPr>
      </p:pic>
      <p:sp>
        <p:nvSpPr>
          <p:cNvPr id="65" name="pole tekstowe 4"/>
          <p:cNvSpPr/>
          <p:nvPr/>
        </p:nvSpPr>
        <p:spPr>
          <a:xfrm>
            <a:off x="684360" y="2349360"/>
            <a:ext cx="518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 miesiącach wakacyjnych wypadków z udziałem dzieci jest aż pięciokrotnie więcej niż w pozostałych miesiącach w roku!</a:t>
            </a:r>
            <a:endParaRPr b="0" lang="en-US" sz="4000" spc="-1" strike="noStrike">
              <a:solidFill>
                <a:srgbClr val="000000"/>
              </a:solidFill>
              <a:latin typeface="Calibri"/>
            </a:endParaRPr>
          </a:p>
        </p:txBody>
      </p:sp>
      <p:pic>
        <p:nvPicPr>
          <p:cNvPr id="66" name="Picture 2" descr="D:\!PROJEKTY\LionFitness\Zdrowy przedszkolak\Logo\Akad_zdro_przedszkolak_logo5_2.jpg"/>
          <p:cNvPicPr/>
          <p:nvPr/>
        </p:nvPicPr>
        <p:blipFill>
          <a:blip r:embed="rId2"/>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mo ciągłych ostrzeżeń, liczba utonięć co roku jest alarmująca – niemal 3000 w całym roku 2011! 50% wszystkich utonięć dotyczy dzieci, z czego 20% dzieci do lat 7.</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elu utonięciom można zapobiec, należy tylko odpowiednio zadbać o bezpieczeństwo naszych dzieci nad wodą.</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leży także pamiętać o                      zabezpieczeniu dziecka przed słońc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d wod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1T13:59:23Z</dcterms:created>
  <dc:creator>Aneta</dc:creator>
  <dc:description/>
  <dc:language>en-US</dc:language>
  <cp:lastModifiedBy>PC5688</cp:lastModifiedBy>
  <dcterms:modified xsi:type="dcterms:W3CDTF">2012-06-12T16:48:16Z</dcterms:modified>
  <cp:revision>47</cp:revision>
  <dc:subject/>
  <dc:title> </dc:title>
</cp:coreProperties>
</file>